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672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F80F-6B8A-4D8C-BE5E-16BBEFBE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565AC83-874B-464F-B882-28FA27B1F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84760" y="8602560"/>
            <a:ext cx="2973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79D6DFF-8A23-4810-A31D-95E08B2FB711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4360" y="289080"/>
            <a:ext cx="5222880" cy="3916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0956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s are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see oil/gas, we’ll probably see plastics, chemic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s are very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e diversification path that is possible for an economy/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734-2644-447E-B884-6282E07A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A56-1732-4218-8EF2-FD9F7811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0E5-83C0-46AA-990C-2CDABBA4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D70-8E53-4C86-80C2-FA8389C5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EE5-58CC-441F-AE40-FA6FAF2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1B9-B225-4CAC-840E-3567B8EC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974-6A9F-4420-B513-687A6AF0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C0B-E4A6-4FD7-B562-B2BE3DD0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FC0-D2E5-49ED-81CD-00818FAB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89D-2AFE-4609-9BC4-270CDA94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8EB-3354-4569-8F13-B5432B1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D60-AE35-466A-9692-A39F8E8E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400-F5D2-4E2C-BE07-F6412FB116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enchmarks.oregon.gov/" TargetMode="External"/><Relationship Id="rId2" Type="http://schemas.openxmlformats.org/officeDocument/2006/relationships/hyperlink" Target="http://benchmarks.oregon.gov/" TargetMode="External"/><Relationship Id="rId3" Type="http://schemas.openxmlformats.org/officeDocument/2006/relationships/hyperlink" Target="http://benchmarks.oregon.gov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conomic Development Though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 Harpste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Council of May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How to enhance Regional Economic Clus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ustry Clusters (Porter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graphic concentrations of competing, complementary, or interdependent fi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needs for talent, technology, and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, changing as the industries themselves or external condition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ed on firms that sell outside the local, state, natio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ing forces in a national, regional, state or metropolitan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How to create a portfolio of cluster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with “financial portfolio theory” the benefit of a portfolio of clusters are the spread of risk and ability to maintain regional momentum when clusters behave “out-of-phas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trategic management of a portfolio of economic clusters will also benefit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-cluster economic transactions (sustainable energy as both an exporter and productivity impro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ducational culture that does not depend on the content of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spillov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lectual revolutions of ideas and advocates willing to spend their reputations and careers in spreading ideas through actions as well as 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: A Science and technology initiative should be developed to focus on the three key areas of need in Minnesota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Human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raining and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Science and Technology Infra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research labs (public and priv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Arial"/>
              </a:rPr>
              <a:t>Commercialization Assist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apital for start up company growth; from seed grants to support innovation to investment capital formation (Angel Tax Credits, VC fund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High-Technology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ocation Facto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iti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usiness  Facto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nsation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c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it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66720" y="20574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-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ecific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ximity to Excellent Research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 to Ventur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ed Work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of Supp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pill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mate and Qualit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371600"/>
            <a:ext cx="7467480" cy="459720"/>
          </a:xfrm>
          <a:prstGeom prst="rect">
            <a:avLst/>
          </a:prstGeom>
          <a:noFill/>
          <a:ln w="255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EXISTING HIGH-TECH PRESENCE is CRI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9720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Milken Institute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merica’s High-Tech Econom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64771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"/>
              </a:rPr>
              <a:t>Source: Atlanta Forum - Mary Jo Wai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cientific personal interaction (Watering Holes) are required with minimal “empire build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nificant data handling technology and informatics will be a cluster back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-tooling” of the informatics system to open-source and open-access will increase content and revise access algorith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portunity to perform early </a:t>
            </a:r>
            <a:r>
              <a:rPr b="0" i="1" lang="en-US" sz="2400" spc="-1" strike="noStrike">
                <a:solidFill>
                  <a:srgbClr val="ffe701"/>
                </a:solidFill>
                <a:latin typeface="Arial"/>
              </a:rPr>
              <a:t>feasibility evaluations of the intuitively conceived technologi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rst Class scientific characterization facilities and laboratories for prototype design and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amless interaction between industry businesses, especially between large and small busin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How to enhance a technological cluster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 (Draft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Long-Term strategy for growth in Gross State Product (specifically emphasize Metro Reg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e relationships/collaborations within Regional Clus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 momentum in Science and Technology Regional Economic Seg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Short-Term and Long-Term investments to achieve strategic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 and measure appropriate “dashboard” or “scorecard” bench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gional Statistic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Statistics (2007 Development Report Ca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N ranks 4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New Company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SBIR 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Manufacturing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VC Inves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PhD scientists and engin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gional Statistics</a:t>
            </a:r>
            <a:br>
              <a:rPr sz="4000"/>
            </a:b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U.S. Metro Economies</a:t>
            </a:r>
            <a:br>
              <a:rPr sz="1200"/>
            </a:br>
            <a:r>
              <a:rPr b="1" lang="en-US" sz="1200" spc="-1" strike="noStrike">
                <a:solidFill>
                  <a:srgbClr val="ccffff"/>
                </a:solidFill>
                <a:latin typeface="Arial"/>
              </a:rPr>
              <a:t>U.S. Metro Economies; </a:t>
            </a: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Gross Metropolitan Product with Housing Update, January 2007</a:t>
            </a:r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key success behind the economic development of metro areas is the </a:t>
            </a: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proximity of businesses and skilled lab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The synergy provided b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lab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nsive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business network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cutting edge researc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t institutes of higher learning,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racts </a:t>
            </a:r>
            <a:r>
              <a:rPr b="1" lang="en-US" sz="1800" spc="-1" strike="noStrike">
                <a:solidFill>
                  <a:srgbClr val="ffe701"/>
                </a:solidFill>
                <a:latin typeface="Arial"/>
              </a:rPr>
              <a:t>both capital and entrepreneur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metro area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Arial"/>
              </a:rPr>
              <a:t>Metro areas are at the cen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development of new technologies, such as nanotechnology or biotechnology, and play a major role in shaping the future economic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N Economic Clust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4800"/>
            <a:ext cx="7543800" cy="612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4280" y="6459480"/>
            <a:ext cx="28782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ource:  Lee W. Munnich, Jr.  University of M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2"/>
          <p:cNvSpPr/>
          <p:nvPr/>
        </p:nvSpPr>
        <p:spPr>
          <a:xfrm>
            <a:off x="6172200" y="1523880"/>
            <a:ext cx="996840" cy="99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nitu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5403960" y="1938240"/>
            <a:ext cx="996840" cy="951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ilding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tures,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pment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19320" y="755640"/>
            <a:ext cx="996840" cy="10018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hing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shing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3220920" y="981000"/>
            <a:ext cx="997200" cy="99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spitality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Tourism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1981080" y="1301760"/>
            <a:ext cx="998640" cy="9507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ricultural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2717640" y="1677960"/>
            <a:ext cx="997200" cy="996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nsportati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Logistic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54000"/>
            <a:ext cx="914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etitiveness and Composition of Minnesota Economy</a:t>
            </a:r>
            <a:br>
              <a:rPr sz="2400"/>
            </a:b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inkages Across Traded Clusters,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706840" y="4978440"/>
            <a:ext cx="996840" cy="996840"/>
          </a:xfrm>
          <a:prstGeom prst="ellipse">
            <a:avLst/>
          </a:prstGeom>
          <a:solidFill>
            <a:srgbClr val="99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stic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1990800" y="4680000"/>
            <a:ext cx="998640" cy="1000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il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2571840" y="4265640"/>
            <a:ext cx="995400" cy="998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ical 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2952720" y="3579840"/>
            <a:ext cx="996840" cy="998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opharma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utica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5410080" y="3044880"/>
            <a:ext cx="997200" cy="100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4"/>
          <p:cNvSpPr/>
          <p:nvPr/>
        </p:nvSpPr>
        <p:spPr>
          <a:xfrm>
            <a:off x="3867120" y="1982880"/>
            <a:ext cx="996840" cy="998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erospac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hicles &amp;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Defen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5"/>
          <p:cNvSpPr/>
          <p:nvPr/>
        </p:nvSpPr>
        <p:spPr>
          <a:xfrm>
            <a:off x="4773600" y="2593800"/>
            <a:ext cx="998640" cy="1001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ing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ic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quip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6"/>
          <p:cNvSpPr/>
          <p:nvPr/>
        </p:nvSpPr>
        <p:spPr>
          <a:xfrm>
            <a:off x="853920" y="3206880"/>
            <a:ext cx="898560" cy="896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ancial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7"/>
          <p:cNvSpPr/>
          <p:nvPr/>
        </p:nvSpPr>
        <p:spPr>
          <a:xfrm>
            <a:off x="1781280" y="3575160"/>
            <a:ext cx="996840" cy="9954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shing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amp; Print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4191120" y="762120"/>
            <a:ext cx="990360" cy="974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19"/>
          <p:cNvSpPr/>
          <p:nvPr/>
        </p:nvSpPr>
        <p:spPr>
          <a:xfrm>
            <a:off x="3103560" y="2279520"/>
            <a:ext cx="998640" cy="998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400640" y="3425760"/>
            <a:ext cx="996840" cy="10000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muni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tion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quipmen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21"/>
          <p:cNvSpPr/>
          <p:nvPr/>
        </p:nvSpPr>
        <p:spPr>
          <a:xfrm>
            <a:off x="5943600" y="5092560"/>
            <a:ext cx="996840" cy="997200"/>
          </a:xfrm>
          <a:prstGeom prst="ellipse">
            <a:avLst/>
          </a:prstGeom>
          <a:solidFill>
            <a:srgbClr val="993366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erospac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in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1620720" y="2625840"/>
            <a:ext cx="897120" cy="896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Oval 23"/>
          <p:cNvSpPr/>
          <p:nvPr/>
        </p:nvSpPr>
        <p:spPr>
          <a:xfrm>
            <a:off x="990720" y="1766880"/>
            <a:ext cx="896760" cy="900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ribu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24"/>
          <p:cNvSpPr/>
          <p:nvPr/>
        </p:nvSpPr>
        <p:spPr>
          <a:xfrm>
            <a:off x="7391520" y="3048120"/>
            <a:ext cx="896760" cy="898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st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25"/>
          <p:cNvSpPr/>
          <p:nvPr/>
        </p:nvSpPr>
        <p:spPr>
          <a:xfrm>
            <a:off x="6418440" y="2590920"/>
            <a:ext cx="896760" cy="896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vy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tio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26"/>
          <p:cNvSpPr/>
          <p:nvPr/>
        </p:nvSpPr>
        <p:spPr>
          <a:xfrm>
            <a:off x="7315200" y="1981080"/>
            <a:ext cx="898560" cy="898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c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ateria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27"/>
          <p:cNvSpPr/>
          <p:nvPr/>
        </p:nvSpPr>
        <p:spPr>
          <a:xfrm>
            <a:off x="5299200" y="914400"/>
            <a:ext cx="949320" cy="9507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abricated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losu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28"/>
          <p:cNvSpPr/>
          <p:nvPr/>
        </p:nvSpPr>
        <p:spPr>
          <a:xfrm flipH="1">
            <a:off x="6400800" y="3803760"/>
            <a:ext cx="998640" cy="996840"/>
          </a:xfrm>
          <a:prstGeom prst="ellipse">
            <a:avLst/>
          </a:prstGeom>
          <a:solidFill>
            <a:srgbClr val="cc99ff">
              <a:alpha val="4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avy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chiner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29"/>
          <p:cNvSpPr/>
          <p:nvPr/>
        </p:nvSpPr>
        <p:spPr>
          <a:xfrm flipH="1">
            <a:off x="7002360" y="5708520"/>
            <a:ext cx="998640" cy="997200"/>
          </a:xfrm>
          <a:prstGeom prst="ellipse">
            <a:avLst/>
          </a:prstGeom>
          <a:solidFill>
            <a:srgbClr val="993366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orting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amp; Recreation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od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 flipH="1">
            <a:off x="7728840" y="4870440"/>
            <a:ext cx="996840" cy="9954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omotiv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31"/>
          <p:cNvSpPr/>
          <p:nvPr/>
        </p:nvSpPr>
        <p:spPr>
          <a:xfrm flipH="1">
            <a:off x="7238160" y="4108320"/>
            <a:ext cx="995400" cy="99396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32"/>
          <p:cNvSpPr/>
          <p:nvPr/>
        </p:nvSpPr>
        <p:spPr>
          <a:xfrm flipH="1">
            <a:off x="5486400" y="4191120"/>
            <a:ext cx="900000" cy="892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or Drive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33"/>
          <p:cNvSpPr/>
          <p:nvPr/>
        </p:nvSpPr>
        <p:spPr>
          <a:xfrm flipH="1">
            <a:off x="6858000" y="4870440"/>
            <a:ext cx="998640" cy="9968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l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ufacturin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34"/>
          <p:cNvSpPr/>
          <p:nvPr/>
        </p:nvSpPr>
        <p:spPr>
          <a:xfrm>
            <a:off x="374760" y="4245120"/>
            <a:ext cx="998280" cy="996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are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35"/>
          <p:cNvSpPr/>
          <p:nvPr/>
        </p:nvSpPr>
        <p:spPr>
          <a:xfrm>
            <a:off x="831960" y="4784760"/>
            <a:ext cx="996840" cy="1000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ther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ed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36"/>
          <p:cNvSpPr/>
          <p:nvPr/>
        </p:nvSpPr>
        <p:spPr>
          <a:xfrm>
            <a:off x="152280" y="2292480"/>
            <a:ext cx="898560" cy="89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welry &amp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cious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l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37"/>
          <p:cNvSpPr/>
          <p:nvPr/>
        </p:nvSpPr>
        <p:spPr>
          <a:xfrm>
            <a:off x="6781680" y="685800"/>
            <a:ext cx="900360" cy="896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xtil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38"/>
          <p:cNvSpPr/>
          <p:nvPr/>
        </p:nvSpPr>
        <p:spPr>
          <a:xfrm>
            <a:off x="152280" y="5486400"/>
            <a:ext cx="897120" cy="8953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twea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39"/>
          <p:cNvSpPr/>
          <p:nvPr/>
        </p:nvSpPr>
        <p:spPr>
          <a:xfrm>
            <a:off x="8153280" y="2454120"/>
            <a:ext cx="898560" cy="8985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ed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o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40"/>
          <p:cNvSpPr/>
          <p:nvPr/>
        </p:nvSpPr>
        <p:spPr>
          <a:xfrm>
            <a:off x="3809880" y="4425840"/>
            <a:ext cx="898560" cy="897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41"/>
          <p:cNvSpPr/>
          <p:nvPr/>
        </p:nvSpPr>
        <p:spPr>
          <a:xfrm>
            <a:off x="3257640" y="3125880"/>
            <a:ext cx="995400" cy="99828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dic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ic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42"/>
          <p:cNvSpPr/>
          <p:nvPr/>
        </p:nvSpPr>
        <p:spPr>
          <a:xfrm>
            <a:off x="3936960" y="2744640"/>
            <a:ext cx="996840" cy="99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lytical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me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3"/>
          <p:cNvSpPr/>
          <p:nvPr/>
        </p:nvSpPr>
        <p:spPr>
          <a:xfrm>
            <a:off x="2489040" y="2973240"/>
            <a:ext cx="995400" cy="995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360" rIns="4536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ducation &amp;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nowledg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4"/>
          <p:cNvSpPr/>
          <p:nvPr/>
        </p:nvSpPr>
        <p:spPr>
          <a:xfrm>
            <a:off x="0" y="6427080"/>
            <a:ext cx="659916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63000" bIns="63000" anchor="b">
            <a:spAutoFit/>
          </a:bodyPr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Note: Clusters with overlapping borders or identical shading  have at least 20% overla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701"/>
                </a:solidFill>
                <a:latin typeface="Arial"/>
                <a:ea typeface="ＭＳ Ｐゴシック"/>
              </a:rPr>
              <a:t>(by number of industries) in both direction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nnesota overall rank =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63280" y="6673680"/>
            <a:ext cx="28782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 Lee W. Munnich, Jr.  University of M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iness Development -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chig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2280" y="1068480"/>
            <a:ext cx="7842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Benchmark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benchmarks.oregon.gov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9200" y="9144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3808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502920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83808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Current Activiti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tting up a Meeting of Participating Mayor’s in Bloomington (Gene’s suppor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pplying for funding support from appropriate found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tworking with Workforce Centers, HT-Alliance, MN-Nano, BioBusiness Alliance, Large Corporations, U of MN, MNSC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couraging meetings between city community development groups (common borders and/or common industr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dentifying appropriate “dashboard” or “scorecard” benchmar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pport proposed legislation (this Thursday) in the Senate to establish a North Star Rising Commission </a:t>
            </a:r>
            <a:r>
              <a:rPr b="1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EDCorp with emphasis on Science and Technology Initia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39:17Z</dcterms:created>
  <dc:creator>Stanley Harpstead</dc:creator>
  <dc:description/>
  <dc:language>en-US</dc:language>
  <cp:lastModifiedBy>Stanley Harpstead</cp:lastModifiedBy>
  <dcterms:modified xsi:type="dcterms:W3CDTF">2009-03-13T14:02:58Z</dcterms:modified>
  <cp:revision>45</cp:revision>
  <dc:subject/>
  <dc:title>Economic Development Thoughts</dc:title>
</cp:coreProperties>
</file>